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ADA-0DAC-4B00-8354-4FD38AE5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AA3-0EB3-4029-8ED0-25E3AE08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138-F078-4BD4-A29D-6F64E7B1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A71-B942-4839-8DE7-A7F500C2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F94-D71A-471C-BFA4-A0CF29B2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723-F763-46A4-9783-3FECEB75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FAD-7110-4C61-B39E-CF3A94F3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9EF-BCE8-47F8-85E2-E926E69D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0E3-DB6A-4E27-905D-FA1A3E23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FCA-2482-4A59-A2F6-21AF61E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B1B-563C-4001-957B-C77F96A3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E92-4105-43A6-B001-D78A29F5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4430-F8F8-4678-926C-DC64C56E4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 2.2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Distributiv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09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: Numerical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200400"/>
            <a:ext cx="71625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 mental 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15(1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(15) – 8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1080" y="914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73520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B + C) = A*B + A*C                           A(B - C) = A*B - A*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 + C)A = A*B + A*C                          (B – C)A = A*B – A*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6960" y="22860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Using the distributiv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53352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y: 4(3x –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6560" y="3200400"/>
            <a:ext cx="794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 each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9(2 – 8y)                                                                             B.   (5m + 6)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638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4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590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590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-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4680" y="25909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8x -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x +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657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6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876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14 – 6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876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18m +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72400" y="4876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-15 t +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9436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295280"/>
            <a:ext cx="8915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2724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029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0:33:33Z</dcterms:created>
  <dc:creator>Susannah Graham</dc:creator>
  <dc:description/>
  <dc:language>en-US</dc:language>
  <cp:lastModifiedBy>grahams</cp:lastModifiedBy>
  <dcterms:modified xsi:type="dcterms:W3CDTF">2011-10-25T14:01:08Z</dcterms:modified>
  <cp:revision>16</cp:revision>
  <dc:subject/>
  <dc:title>Slide 1</dc:title>
</cp:coreProperties>
</file>